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DC2946-9C0D-4805-B6AD-A2B6822DE8BF}"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46474B-939B-4FDA-9233-C9DF20366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9FE44-835D-474D-84D3-AA81DDF82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1341E3-EB48-424F-9E52-6AB6A1A24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BB437-DF49-48BA-9EE6-B70E974CA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41130B-F29F-461F-AD92-73F8F86EE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3E9B0-7FB6-4916-A8B1-253C1E27C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2CF9E0-90D1-4247-AA0A-37A0C2A9D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E8378C-475D-4992-A8E0-2C9E6CC7A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CD34B7-C7D7-4B8A-839C-8CA864BBD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DAE49-F006-4782-B2D6-47F3E7E4C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52408-A1FC-4DF0-AF53-36FD88E90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E132A-0E0C-4AB5-AB1B-B0DCB462E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8530D-D732-4978-B258-46A236E06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A578E-DFC8-4796-B2DF-F0C9723A0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3450D-EE7F-4B08-B9D4-633265866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16558-A246-4532-876D-EAE795252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AB9FA-2DDF-40C4-A63C-3A0F83BAA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DD65B-3472-4ABE-9E14-89BA33947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59D9E-70D3-45CE-8C44-440ACEC65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48438-85BB-46DC-BE9D-1C80F6080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AB54B-D650-431C-8EC4-0DC557E34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434EA-C11B-4BE8-AC09-6471AC972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C85AC7-41FC-49D8-932A-F0266FFDF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1AD5B-BE51-4436-83CE-CEB97B0E5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788948-D3CF-4197-8D25-0DF399EE4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728E4C-4D9B-47BF-B3BD-E72954527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F065A-D609-4BA3-A9A5-AC6EB2B44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2DA10-628B-4620-8957-1E8BF89B4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9ABFA-51F1-4AFE-9C89-5907B9C02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70A73-064C-4BCC-9E1B-A44D82976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DCE33F-4FCC-43A9-977E-D2E85C08D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D158D9-65FA-4C8D-B5AB-F7A994039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78FD0-6BEF-4EDC-9120-CC225FE53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135EB-39E0-4751-8654-99DC46ACA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785DD-DDA8-4B3D-B073-1971C2904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7F0327-02D6-4695-A1D7-AB3998F9A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4F07F1-FC15-48C1-A6AB-24434D8DD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40D5C-88E5-448A-85AA-A9DA83CE0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6ECFF7-9FE7-4F49-A264-9B751A1DD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220F0-86E4-4BB3-B75C-8B5C61C17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45215-4D3C-4746-8264-193FA6B36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DD75D-797F-4281-ADEC-696C1F928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FDAE9-A607-4411-8D8C-B54779E1D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C2887-19BA-40E5-AD7D-E7BB76760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CDD53-280A-40EA-8474-CC13B71D9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687E03-6979-4DF4-843A-9100AE51E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4D1EB-4E58-44F7-9089-D118741A4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889CB-3B5D-40B7-BA8F-259D68162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83B034-31C4-4F14-922E-BB59601B9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A0E45A-B049-40CF-84E8-6BB6E37F7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5C6F4-6FB2-4183-A660-3C5ACE676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7FB59-DD6A-4D13-AE7B-8FB449BE4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5D6490-AE20-4911-AEFB-8EB272475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FC669-3EEF-4675-9EFF-DDD96BC65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0BE826-43AE-438E-B90D-59677C68B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523C8-C492-45F0-A323-A80BF2D88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4ED3A-9FE7-47DF-9A04-D291AB097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5A67AA-47E8-49B5-B239-69817DD27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9E9C06-E584-4B9C-A2CD-E10344F4D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A174E-5BDB-4F1D-90C3-1BF943C66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92C16B-30EC-4789-AED4-5440A7A94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A5F78-FBFC-4B59-9E76-656998154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98BCC9-6DF7-4C3B-A183-195ABB250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37852-1520-4AF0-9D6D-A398D16A3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91503-3C23-42FE-BF50-B1E05689B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CAF11-165D-4F59-8F7F-F721E5817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1DCB5-EBDC-4FC7-86E3-6E4F7610B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04675-5040-4E33-9AD4-A7BF1A1B8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DCFFC3-915B-4F37-8D1B-EA5526350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161F7-684C-4F13-AA1C-FCCFAA11A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7EC63B-7291-4384-B752-4A5168DF7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D20D1BF-B3C0-4F81-A283-CE09E131D9B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D073705-199E-42AC-A179-ECA9D17ACB4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6801450E-4FF2-419C-AF7F-F8DE0EC615F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FD9A55B-E37D-479D-BBD1-41425DF1A5F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0113348-9663-4AB7-B468-AD265BBD265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F408085-AD8E-432C-9E7F-4268EAA5241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7F932ED-1C57-4A0C-AFE5-F6A34D2E0E4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5A52092-6100-42A1-B14B-5C03B79FE8E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C3B653D5-37BE-46EC-BF99-42605E254FB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3DF8C844-C720-4A66-9DCB-CE4A5DEE030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E0296A0-9B1C-45F4-8AE1-B046F38C32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6488BA62-DFEB-48CC-9EC9-D6C1D2FB0C4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908BEC2-3386-4210-95FB-4D54613B063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0D4742E-5505-49E3-901A-29F6AF87984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E221F20-9E09-4785-8D0C-C9BA4F9E196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BC385536-A1AD-4F1A-A974-298E1872CBC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8B5B2E75-7CCA-4AD8-AE63-7562ACA2841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CB7E51E-14BF-4DFF-91FC-6AF3D2D50AD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002E64A-9083-49D0-87E9-C35F146B9DD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229DD94-3DAE-489C-9AA9-A8B47A13DA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B15D911-04D2-4AC1-A8F3-8CD76A68D3F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4EE425EC-F409-46C9-BBD3-B4F531E83F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5DF46E5-045A-47C9-A1D9-6AE8DDABBA1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790EAEAE-3D97-4B39-9BA8-64525B62066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0D04A27-8D5F-4AC0-BFD6-6334D30A2A8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68090DA5-4AAC-487F-81CD-D0B3902A728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A535ED3-3D0D-41DF-AB1F-096AA7174ED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3C71A1B-15E2-43C6-A8EF-3EC4DC1A1F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3DF4E570-7615-4482-AB24-F1DB153F412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D6A5FC2-EB57-456A-8D33-64968EBE4D4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446DEAD-9A48-47A3-8AB6-A32050F89F5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8843B08-85A7-4B03-9FF1-26F9983DD3D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F77E50C-9E21-4CA1-B6B6-94CEF8345E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6D8E2C-7769-4E8F-8EDE-FD2B3675426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FDD7FFA-B01A-4569-A377-D0036640DF4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CB8A9E37-3B8B-4AB1-A211-BEE8435330D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28489B04-7807-46ED-85FF-E2B1B3D988F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1DB66CE-F109-4784-B4E3-CD2527CD1BC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07822BB-2469-49B4-92C3-E81F3BAB87E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DB18159-E47D-423E-84A8-AAD16720C50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63BD161-3653-43A8-AFFC-FF987FDC8DB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A02DFE48-FE53-4AF5-95DC-953B13258FD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91CFA4EE-9437-4440-B379-3A6298AD350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BC3E9A4-6738-472E-9CF5-F0575818F9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CEDE81E-DE95-44F4-83F9-F837E60E480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065630B-634C-4EC2-92A2-C7CA5B1E03E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7B69F63-247A-417B-9949-9065964BE00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96A096A-C853-4A41-BFAA-11444497F08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D65832D-BB82-4796-B050-8C4E2E8C6DA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E0D3D506-DEB1-4253-BC56-E54A2062472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DE95756-83D7-477E-BA6E-926C5EC0A52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50DF01E-C698-41BA-BBCC-4228939E8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EF76E12-6890-46FA-AF7F-E4258E2A6F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55953C8-6A71-4ED9-845A-8468CBB531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F6FFB87F-B8E8-4ADF-A5B1-5C678A0B98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8BA1A4F-EF56-4C47-9CE0-924868A23C5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A9FA85D-9964-404B-9697-A76B65E830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FBE0E52-2DB9-4220-9D4D-D1D73191FF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6961FB7-6DBE-40D2-81FB-A51A94513F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672CA66-AC07-407A-ACCB-2407C54FDF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7593383-D59A-4C7F-8BA9-74CFDFADB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CC9FA81-BE9C-4B84-889C-6CAD2F0E09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0C95894E-F364-4811-96FC-DCC879D7340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EEF6062-9B28-4F12-91BE-B7CF280F73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2AB3C3B-99CE-4FC4-B7FC-7D4F5186F3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CA42004-0C50-4803-8028-C1528A531D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F88DAC5-06D9-4E88-A7DE-211F235FB2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7BF074B-EA7B-4B70-8D2F-0BA47875F1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35053D7-F8C8-4C26-9F35-D33B22E93C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B96A45F-2D27-4B6F-917B-F81DD53473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7882AE5-4D57-42F9-8B89-55C2AF4E81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3568820-52B1-4619-BB4E-9FF4BCF927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EACE499-E3F0-4718-96A3-27222B6B570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BC73A78-4A51-4151-980A-91EFFA6535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EF726B-DE4E-4284-8D5A-8B2632E880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EF5ABD-CA87-490B-B6CD-CABB1DB553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E0B197C-F629-4667-A093-4531DAE08E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84650F-E93C-4BCD-9D21-82ADBC99E4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5B4E20C-0E8F-4704-9209-93603EBB732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03C5F2A-D4A8-47B5-BF70-914193DA46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0460764-1D46-4116-A738-E007D31BC9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308AF97-D059-4174-936C-08A6928C0DB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E23CAEF-DE80-4437-A661-8D90EB3DD68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699A7E83-9F10-4F2C-AD5D-5F40A489DA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EA3FB52-4C76-4A90-A60D-3942531FCC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0AA6F369-F2E4-4FBF-82CD-EE3FFA6DC6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0F1354-889E-4714-BB63-3A947DC0CDE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D6A811C-07EE-4751-9305-B83CE557656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2DD13EC-8041-40DB-AF9B-4D8CF4CF91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91D1152-5D02-4177-BBED-691CB9CF4A8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948A22F-6A91-4106-A905-3CBFB4AE721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2AAD9D77-2487-4109-AB5E-EACF83153ED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27A1F98D-517B-4163-ABE4-E385ACAAD2E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804688E-B208-4C37-A0FB-D2E276F4DAC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2E8D272-41F0-44F7-9207-C642FB4C5CF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2A4DDCD-EB94-41FD-B612-332C2FEC266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C0D600E-0662-4CEB-A4AE-9F5F04EBA4E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696DF848-CC82-4782-A178-5716677DD4B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923DA1A3-AA12-469E-A7C6-3488A42BAE9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140B127-0685-4C7E-86F2-1531D26ACF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4F8D739-C7DF-42B4-848B-7F57FD04C6A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91459AA-E1F7-408D-B6CE-C161479D1CC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1740990-E303-44BF-8B34-BBE825E56A1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461A18E-E43E-4682-A228-1875CF135B6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86E01E9E-4B5E-4357-8571-02E747770EF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D777B0A3-1E7F-4258-BF58-A593034E0F3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02E0CC1-B753-48FB-92DB-D58100B4F29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812BA77-9CFB-49EE-BC93-8B43AC99248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FF5A17C-9205-42B5-A4E2-D1CD022F042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FAFC167-7A6E-412E-9FC6-6C6688AE6BF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6236F737-FDE8-43E2-B4D0-3190557E15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7504EA1-639A-4CE1-9115-5826AE1E6DA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A241B8BA-27A7-45CE-A5DF-FEA1AAADB6E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5D70946-5EF7-4145-97BC-AB007A5005E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9926E5B-EBF1-4ED9-82F8-88D21B6C7E7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4FBC00D-8744-4879-AC47-FACFB3D7E01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F8C34BA-4937-4B08-9F7F-B50F89FA49F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E6D114B-B98A-4706-8629-F9CF013F139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1E2BC71B-1DF8-483C-A451-A337DA7FB67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CE9FC26-F73D-4084-BDFC-C51C6ECE26B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0CC6D00-5203-404D-A33D-21FFB37A6CE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4128D7D-AF9D-4016-9A7A-F1E8B46874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B4B3278-CE04-4330-BEEA-4DF5C36835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0856619-3F28-4D58-8D93-193E48D4746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75A5381B-4771-4DE8-871B-0C2D8254FA3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F05C8A8B-E4C2-4E91-B49B-3530A0C72D8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49E7F7B-3FDC-4C25-B14D-104B814EB9B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5FFF7EA-4284-473F-A9D3-1F700B24D08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865F33B-E6C3-40D6-ABC7-A0ABA94EC29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5FF5EEC-B091-49D7-A199-B7AD388FF20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4120D5B0-B75A-467A-902C-6FDCB04D5B0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69CF06E-70D6-4B4A-8380-2213065CA24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DD016DD-14B0-4FD5-9F72-229656C88F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DEF6BE6-D89C-4747-A9BF-9CD48B5FED7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1ECF975-A148-4B1F-9361-877FED828A2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746D1A8-1578-4E0F-B856-0E712752424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E99EFD6-0A4B-435B-B767-1E154489961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3DE14A60-17A5-48FE-9DCE-B0CADED40F8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71A53F8E-BC2B-41EF-B57C-8EC57B5F7AE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8685B3B-962E-4F21-8CFA-ABCF41B69F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E0A82A2-DD26-4CDA-AC56-7BF494BDDBE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22339BD-C287-4701-B103-6312F25C965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02026B8-C95D-4FAF-B6CE-B23577106D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0042D53-1280-4D07-B339-8D56F332FF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B11F19B-3954-4C2B-807F-3A611AE1AC7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21211344-9342-40C4-B5F5-A7CDEA55580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65268CF-9BFF-486D-B016-8709335EAE7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19E30E2-45F2-4068-99FC-AEBACAC5FCF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863DDA6-B714-4F82-94F3-4FDBD8CC192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295F5C8-FD9C-4538-AE31-4BF909F314E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AE4DFA30-1898-4B37-AB28-765DF66136A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72787ED8-AF5E-4CC1-832B-46B61715299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C91B4D7-0FCB-433B-BA02-DBE930C4E23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C3EAA32-8D02-426D-8F8B-677DA6EAE25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13C6CAB-F899-4CB8-87DE-7EAD5B5A6B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9A7B10-F4AB-424A-8FC9-A7C3B7B307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1E20FB-4300-48F7-9B53-5A28AA3043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ED7F1C-013F-4126-86FB-149CA133BA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8EE21-0CCC-4755-BF6B-3753DF69D3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0C753E-7612-4D61-8F8F-EF3FEFD16B7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B3EE8B-D50D-4D4A-A0A8-9C32CAC308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36D288-E90D-40D6-9EC1-90D581027F5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665AB-9D55-4552-9C95-F7CE54F7AF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C94DC-62F7-4398-A9A9-970BF7BF535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FB461-A675-4F86-AD6D-DA7C59475F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FCDB5-B421-4B7E-BFE4-F92B6E59F8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CD9E5-7074-42DF-B1CE-7F65ED8F04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A2226C-7ABA-4DCE-90BA-575C0E6EF0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10800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81080" y="1392120"/>
            <a:ext cx="82785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324000" y="1268280"/>
            <a:ext cx="849600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95280" y="1001880"/>
            <a:ext cx="8424720" cy="480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95280" y="1001880"/>
            <a:ext cx="8424720" cy="480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539640" y="1268280"/>
            <a:ext cx="8277480" cy="482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179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24000" y="121284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εξωτερικές δραστηριότητες </a:t>
            </a:r>
            <a:br>
              <a:rPr sz="2800"/>
            </a:br>
            <a:r>
              <a:rPr b="1" lang="el-GR" sz="2800" spc="-1" strike="noStrike">
                <a:solidFill>
                  <a:srgbClr val="000000"/>
                </a:solidFill>
                <a:latin typeface="Times New Roman"/>
              </a:rPr>
              <a:t>(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413000"/>
            <a:ext cx="75960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125360"/>
            <a:ext cx="8207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125360"/>
            <a:ext cx="8137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773280" y="1233360"/>
            <a:ext cx="759744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97164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80" name="" descr=""/>
          <p:cNvPicPr/>
          <p:nvPr/>
        </p:nvPicPr>
        <p:blipFill>
          <a:blip r:embed="rId1"/>
          <a:stretch/>
        </p:blipFill>
        <p:spPr>
          <a:xfrm>
            <a:off x="0" y="0"/>
            <a:ext cx="9144000" cy="1368360"/>
          </a:xfrm>
          <a:prstGeom prst="rect">
            <a:avLst/>
          </a:prstGeom>
          <a:ln w="0">
            <a:noFill/>
          </a:ln>
        </p:spPr>
      </p:pic>
      <p:pic>
        <p:nvPicPr>
          <p:cNvPr id="1181" name="" descr=""/>
          <p:cNvPicPr/>
          <p:nvPr/>
        </p:nvPicPr>
        <p:blipFill>
          <a:blip r:embed="rId2"/>
          <a:stretch/>
        </p:blipFill>
        <p:spPr>
          <a:xfrm>
            <a:off x="1258920" y="2060640"/>
            <a:ext cx="1297080" cy="1528560"/>
          </a:xfrm>
          <a:prstGeom prst="rect">
            <a:avLst/>
          </a:prstGeom>
          <a:ln w="0">
            <a:noFill/>
          </a:ln>
        </p:spPr>
      </p:pic>
      <p:pic>
        <p:nvPicPr>
          <p:cNvPr id="1182" name="" descr=""/>
          <p:cNvPicPr/>
          <p:nvPr/>
        </p:nvPicPr>
        <p:blipFill>
          <a:blip r:embed="rId3"/>
          <a:stretch/>
        </p:blipFill>
        <p:spPr>
          <a:xfrm>
            <a:off x="6948360" y="1989000"/>
            <a:ext cx="1444680" cy="1573200"/>
          </a:xfrm>
          <a:prstGeom prst="rect">
            <a:avLst/>
          </a:prstGeom>
          <a:ln w="0">
            <a:noFill/>
          </a:ln>
        </p:spPr>
      </p:pic>
      <p:sp>
        <p:nvSpPr>
          <p:cNvPr id="1183"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84"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24000" y="1125360"/>
            <a:ext cx="8351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907920"/>
            <a:ext cx="813744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40Z</dcterms:modified>
  <cp:revision>170</cp:revision>
  <dc:subject/>
  <dc:title>Παρουσίαση του PowerPoint</dc:title>
</cp:coreProperties>
</file>